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0B6D-7543-4E66-B264-1B74E61FF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don’t really ex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1DA6-A639-45A6-91F5-D2621AE93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blue rose was created using genetic modification by Suntory Flowers in 2008 (see http://www.telegraph.co.uk/news/worldnews/asia/japan/3329213/Worlds-first-blue-roses-after-20-years-of-research.html), while the ‘black’ tulip is actually a dark purple colour and has been around since before the advent of genetic engine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C04-476F-464F-ACD4-25CC44C3C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rple tomatoes have been created by genetic modification to contain more antioxidants than normal tomatoes (see http://news.bbc.co.uk/1/hi/7688310.stm), whereas these purple carrots are naturally occurring and may have been one of the earliest forms of carrot, originating in modern-day Afghanistan over 5000 years ago (see http://www.carrotmuseum.co.uk/history.htm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4A71-D1CF-412F-BD92-462428710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famous mouse with the human ear was neither selectively bred nor genetically engineered to grow that ear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"ear" was actually an ear-shaped cartilage structure grown by seeding cow cartilage cells (there was never any human tissue used) into a biodegradable ear-shaped mould.  It was created to demonstrate a method of fabricating cartilage structures for transplantation into human patients (See http://www.famouspictures.org/mag/index.php?title=Ear_Mouse).  The glow-in-the-dark mouse, on the other hand, has been genetically engineered to contain a gene from a naturally glowing jellyfish (though I suspect this picture has been enhanc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C259-735B-41C0-AC97-058FFDB50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re glow-in-the-dark creatures: a glowing version of the zebrafish, known as the Night Pearl, is now on sale as a pet (see http://www.guardian.co.uk/uk/2003/jun/15/science.highereducation1).  The glowing jellyfish do that naturally, and it is their genetic material which has been inserted into the zebra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B693-D091-4266-B0F8-E7D3F9955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lowing tobacco plant and piglets – both genetically engine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882D-0DB0-42CC-99DC-27870BF37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8BC-F192-4144-B3BD-044EB19F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442-636E-413F-B5CC-9A9A8C1A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0D2-A079-4B3F-B47B-A4937A0A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575-AC69-40B2-8AC1-0886F39F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763-4D27-47C6-8BC6-ED22588A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F37-AE8C-4EC0-83AD-2B80E8C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763-6B1F-4A3E-82C1-D0F44410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ED8-0851-43A8-A016-F960C56F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451-E2CA-43BE-A808-2B00E2B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73A-CBB5-4918-B309-9A0AFFBC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5DF-C286-44C3-83CF-FCDF098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3E2-675D-4118-89A8-4A662CA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1ABD-90BB-4B88-845B-6DD54BAD3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Content Placeholder 6" descr=""/>
          <p:cNvPicPr/>
          <p:nvPr/>
        </p:nvPicPr>
        <p:blipFill>
          <a:blip r:embed="rId1"/>
          <a:stretch/>
        </p:blipFill>
        <p:spPr>
          <a:xfrm>
            <a:off x="1179360" y="611280"/>
            <a:ext cx="67104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Turtlehopper turtle grasshopper.jpg"/>
          <p:cNvPicPr/>
          <p:nvPr/>
        </p:nvPicPr>
        <p:blipFill>
          <a:blip r:embed="rId1"/>
          <a:srcRect l="8570" t="0" r="17097" b="0"/>
          <a:stretch/>
        </p:blipFill>
        <p:spPr>
          <a:xfrm>
            <a:off x="752400" y="1852560"/>
            <a:ext cx="373068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og monkey dog.jpg"/>
          <p:cNvPicPr/>
          <p:nvPr/>
        </p:nvPicPr>
        <p:blipFill>
          <a:blip r:embed="rId2"/>
          <a:stretch/>
        </p:blipFill>
        <p:spPr>
          <a:xfrm>
            <a:off x="4921200" y="1508040"/>
            <a:ext cx="3495600" cy="4762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3"/>
          <p:cNvSpPr/>
          <p:nvPr/>
        </p:nvSpPr>
        <p:spPr>
          <a:xfrm>
            <a:off x="3246480" y="3932280"/>
            <a:ext cx="120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223040" y="4587840"/>
            <a:ext cx="120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"/>
          <p:cNvPicPr/>
          <p:nvPr/>
        </p:nvPicPr>
        <p:blipFill>
          <a:blip r:embed="rId1"/>
          <a:stretch/>
        </p:blipFill>
        <p:spPr>
          <a:xfrm>
            <a:off x="976320" y="171936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5" descr=""/>
          <p:cNvPicPr/>
          <p:nvPr/>
        </p:nvPicPr>
        <p:blipFill>
          <a:blip r:embed="rId2"/>
          <a:stretch/>
        </p:blipFill>
        <p:spPr>
          <a:xfrm>
            <a:off x="5129280" y="1814400"/>
            <a:ext cx="3076560" cy="4095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666880" y="446580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56360" y="4282920"/>
            <a:ext cx="12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"/>
          <p:cNvPicPr/>
          <p:nvPr/>
        </p:nvPicPr>
        <p:blipFill>
          <a:blip r:embed="rId1"/>
          <a:stretch/>
        </p:blipFill>
        <p:spPr>
          <a:xfrm>
            <a:off x="571680" y="2168640"/>
            <a:ext cx="3985920" cy="29574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"/>
          <p:cNvPicPr/>
          <p:nvPr/>
        </p:nvPicPr>
        <p:blipFill>
          <a:blip r:embed="rId2"/>
          <a:stretch/>
        </p:blipFill>
        <p:spPr>
          <a:xfrm>
            <a:off x="4645080" y="1962000"/>
            <a:ext cx="3821040" cy="3996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3094200" y="3535200"/>
            <a:ext cx="147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056360" y="4282920"/>
            <a:ext cx="12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4" descr=""/>
          <p:cNvPicPr/>
          <p:nvPr/>
        </p:nvPicPr>
        <p:blipFill>
          <a:blip r:embed="rId1"/>
          <a:stretch/>
        </p:blipFill>
        <p:spPr>
          <a:xfrm>
            <a:off x="457200" y="2521080"/>
            <a:ext cx="4038480" cy="26841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5" descr=""/>
          <p:cNvPicPr/>
          <p:nvPr/>
        </p:nvPicPr>
        <p:blipFill>
          <a:blip r:embed="rId2"/>
          <a:stretch/>
        </p:blipFill>
        <p:spPr>
          <a:xfrm>
            <a:off x="4764240" y="2109960"/>
            <a:ext cx="3641400" cy="347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010280" y="207324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352680" y="3581280"/>
            <a:ext cx="12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4" descr=""/>
          <p:cNvPicPr/>
          <p:nvPr/>
        </p:nvPicPr>
        <p:blipFill>
          <a:blip r:embed="rId1"/>
          <a:stretch/>
        </p:blipFill>
        <p:spPr>
          <a:xfrm>
            <a:off x="833400" y="1957320"/>
            <a:ext cx="3286080" cy="38102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5" descr=""/>
          <p:cNvPicPr/>
          <p:nvPr/>
        </p:nvPicPr>
        <p:blipFill>
          <a:blip r:embed="rId2"/>
          <a:stretch/>
        </p:blipFill>
        <p:spPr>
          <a:xfrm>
            <a:off x="4365720" y="2138400"/>
            <a:ext cx="421776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7421400" y="3886200"/>
            <a:ext cx="120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697120" y="185904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4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5" descr=""/>
          <p:cNvPicPr/>
          <p:nvPr/>
        </p:nvPicPr>
        <p:blipFill>
          <a:blip r:embed="rId2"/>
          <a:stretch/>
        </p:blipFill>
        <p:spPr>
          <a:xfrm>
            <a:off x="4359240" y="1752480"/>
            <a:ext cx="4586400" cy="3154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7010280" y="207324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697120" y="268596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9:49:36Z</dcterms:created>
  <dc:creator>Amanda George</dc:creator>
  <dc:description/>
  <dc:language>en-US</dc:language>
  <cp:lastModifiedBy>Pepe</cp:lastModifiedBy>
  <dcterms:modified xsi:type="dcterms:W3CDTF">2011-02-28T19:19:52Z</dcterms:modified>
  <cp:revision>24</cp:revision>
  <dc:subject/>
  <dc:title>Slide 1</dc:title>
</cp:coreProperties>
</file>